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5E051-ADA0-483F-9973-EB13CB4E8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650DC-1DC2-4ECC-AD84-773C4EF2D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14926-5D16-4613-ADAD-31D240A98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AE39E-A716-4FEF-9FD1-E0E276C5F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7F025-4851-43B9-9ABD-88CA2C2F9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87EE7-3C4E-4666-96D0-C466CA8E4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87487-3BAB-480F-B39B-0EAD62103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D1314-6B7A-44E2-9F2D-CB31533B5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33871-0402-4AFC-AD5D-AFE58811F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FDED2-99BE-4EFE-9009-AB9E6A2A7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80C86-7FAC-4980-9E20-D7C28E5EA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BBEAC-1945-411B-B5A7-428E2E9A4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F15BA-D4D4-4642-94CF-D547F70A8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96DEA-A054-44C7-B623-F563F37C6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AE3BB-F834-4A03-9A90-CAE6B6361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047D8-16FD-4525-ACEA-4B95945AD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E10C1-7BC2-4545-A6CE-20E9DCF3E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0350B-C9CA-4AB6-B11D-B9A5990DD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66992-70C0-4DFE-A775-8F5B29AE0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F0809-2553-404C-9933-B6CAAA81B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48781-2CB2-44D1-8564-29ACA9C08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F31F1-35D1-42ED-AC06-34DE23DDD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F1553-8A47-4D8B-AA45-0245C9BC0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07CBC-A4DB-442A-B763-EF0802E12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DB7FF-D487-40B9-B8B4-34E6B4EE858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38545-C305-42B1-BE91-7099461CB97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shielded and Shielded 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shielded Twisted Pair (U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inary telephone wi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st to inst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ers from external EM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ielded Twisted Pair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al braid or sheathing that reduces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er to handle (thick, heav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TP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grade found in most off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of 7.5 cm to 10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20 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ly pre-installed in new office buildin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0.6 cm to 0.85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ar End Crosstal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of signal from one pair to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takes place when transmit signal entering the link couples back to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.e. near transmitted signal is picked up by near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20412" r="0" b="47008"/>
          <a:stretch/>
        </p:blipFill>
        <p:spPr>
          <a:xfrm>
            <a:off x="685800" y="1676520"/>
            <a:ext cx="77724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versatile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 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iel to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ble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10,000 voice calls simultane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ing replaced by fiber opt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distance computer systems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few 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if higher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5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1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for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60246" r="0" b="10168"/>
          <a:stretch/>
        </p:blipFill>
        <p:spPr>
          <a:xfrm>
            <a:off x="533520" y="1973160"/>
            <a:ext cx="838188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Benef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s of hundreds of G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ize &amp; we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attenu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magnetic iso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repeater spa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s of km at le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-haul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ropolitan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ural exchange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 as wave guide for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5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Hz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ions of infrared and visible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ght Emitting Diode (LE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r operating temp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st lon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jection Laser Diode (IL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velength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ided - wi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- wir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and quality determined by medium and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uided, the medium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nguided, the bandwidth produced by the antenna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concerns are data rate an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Transmission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9525"/>
          <a:stretch/>
        </p:blipFill>
        <p:spPr>
          <a:xfrm>
            <a:off x="609480" y="1679400"/>
            <a:ext cx="7925040" cy="51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and reception via anten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eful alignmen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spreads in all dir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received by many antenna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GHz to 40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wa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ly 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tell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0MHz to 1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2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restrial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bolic dis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haul tele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er frequencies give higher 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tellite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is rela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receives on one frequency, amplifies or repeats signal and transmits on anoth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geo-stationary or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ight of 35,784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 business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Radi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M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HF and VHF 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ffers from multipath 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l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ra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e noncoherent infrared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 (or reflec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ed by wa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V remote control, IRD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Fact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bandwidth gives high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impair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receiv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guided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receivers (multi-point) introduce more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magnetic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7401"/>
          <a:stretch/>
        </p:blipFill>
        <p:spPr>
          <a:xfrm>
            <a:off x="762120" y="1676520"/>
            <a:ext cx="761976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uided 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rcRect l="2349" t="0" r="16196" b="81868"/>
          <a:stretch/>
        </p:blipFill>
        <p:spPr>
          <a:xfrm>
            <a:off x="380880" y="1752480"/>
            <a:ext cx="8305920" cy="2448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comm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house and local exchange (subscriber loo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private branch exchange (PB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local area networks (LA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Mbps or 10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work wi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5km to 6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ither analog or digita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2km or 3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bandwidth (1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ata rate (100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interference and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5T12:24:05Z</dcterms:created>
  <dc:creator>Adrian J Pullin</dc:creator>
  <dc:description/>
  <dc:language>en-US</dc:language>
  <cp:lastModifiedBy>Adrian J Pullin</cp:lastModifiedBy>
  <dcterms:modified xsi:type="dcterms:W3CDTF">1999-10-13T14:41:49Z</dcterms:modified>
  <cp:revision>26</cp:revision>
  <dc:subject/>
  <dc:title>William Stallings Data and Computer Communications</dc:title>
</cp:coreProperties>
</file>